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gif" ContentType="image/gif"/>
  <Override PartName="/ppt/media/camera.wav" ContentType="audio/x-wav"/>
  <Override PartName="/ppt/media/image12.png" ContentType="image/png"/>
  <Override PartName="/ppt/media/image11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whoosh.wav" ContentType="audio/x-wav"/>
  <Override PartName="/ppt/media/image4.wmf" ContentType="image/x-wmf"/>
  <Override PartName="/ppt/media/type.wav" ContentType="audio/x-wav"/>
  <Override PartName="/ppt/media/image9.gif" ContentType="image/gif"/>
  <Override PartName="/ppt/media/image10.png" ContentType="image/png"/>
  <Override PartName="/ppt/media/image5.wmf" ContentType="image/x-wm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580F-00F0-4FA4-A8A2-57F9CF25E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AD20-DF4E-4B84-A51F-4F9F2E4A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5072-3873-40B1-A32D-F6A2C67CB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65D9-09F7-4294-8D6D-32EDE44BD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F695-6E5C-4C77-9983-8240F481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ED2C-4B82-4FC8-BCA7-F4E9E5A5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32E9-6FC1-47DD-966B-431EC2DE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FE13-5FFA-4C10-8AE9-E1626F44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2DBD-A2AB-44A1-A380-1EEFD9A6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B2EF-606A-411A-AB30-ED824D82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9351-E7EC-49D9-8502-3F9522ED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8D64-7029-4C87-AB9C-2EBFBCC2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E728-45FC-4743-98B9-56B629E8C8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2" descr=""/>
          <p:cNvPicPr/>
          <p:nvPr/>
        </p:nvPicPr>
        <p:blipFill>
          <a:blip r:embed="rId2"/>
          <a:stretch/>
        </p:blipFill>
        <p:spPr>
          <a:xfrm>
            <a:off x="1316160" y="2262240"/>
            <a:ext cx="696888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250920" y="11592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某蓄水池的排水管每时排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6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将满池水全部排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322200" y="313056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当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=5h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Q=48/5=9.6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所以每时的排水量至少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9.6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50920" y="399564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知排水管的最大排水量为每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么最少多长时间可将满池水全部排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22200" y="4930920"/>
            <a:ext cx="79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当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=12(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t=48/12=4(h)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所以最少需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h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可将满池水全部排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50920" y="5796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6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出函数图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图象请对问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出直观解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和同伴交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250920" y="226836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准备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将满池水排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么每时的排水量至少为多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24000" y="110952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间的函数关系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9"/>
          <p:cNvGrpSpPr/>
          <p:nvPr/>
        </p:nvGrpSpPr>
        <p:grpSpPr>
          <a:xfrm>
            <a:off x="250920" y="1562040"/>
            <a:ext cx="6624720" cy="1370880"/>
            <a:chOff x="250920" y="1562040"/>
            <a:chExt cx="6624720" cy="1370880"/>
          </a:xfrm>
        </p:grpSpPr>
        <p:sp>
          <p:nvSpPr>
            <p:cNvPr id="118" name="Text Box 10"/>
            <p:cNvSpPr/>
            <p:nvPr/>
          </p:nvSpPr>
          <p:spPr>
            <a:xfrm>
              <a:off x="250920" y="1763640"/>
              <a:ext cx="66247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解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:t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与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Q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之间的函数关系式为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: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" name="Object 11"/>
                <p:cNvSpPr txBox="1"/>
                <p:nvPr/>
              </p:nvSpPr>
              <p:spPr>
                <a:xfrm>
                  <a:off x="4930920" y="1562040"/>
                  <a:ext cx="930240" cy="93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8</m:t>
                          </m:r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250920" y="115920"/>
            <a:ext cx="85690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码头工人以每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吨的速度往一艘轮船装载货物，把轮船装载完毕恰好用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时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轮船到达目的地后开始卸货，卸货速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单位：吨／天）与卸货时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单位：天）之间有怎样的关系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由于遇到紧急情况，船上的货物必须在不超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内卸完，那么平均每天至少要卸多少吨货物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3"/>
              <p:cNvSpPr txBox="1"/>
              <p:nvPr/>
            </p:nvSpPr>
            <p:spPr>
              <a:xfrm>
                <a:off x="4495680" y="3270240"/>
                <a:ext cx="1526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2" name="Text Box 4"/>
          <p:cNvSpPr/>
          <p:nvPr/>
        </p:nvSpPr>
        <p:spPr>
          <a:xfrm>
            <a:off x="34920" y="472428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分析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根据装货速度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装货时间＝货物的总量，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可以求出轮船装载货物的的总量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116000" y="580536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再根据卸货速度＝货物总量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÷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卸货时间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得到ｖ与ｔ的函数式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539640" y="26028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例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某种工艺品，一名工人一天的产量约为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至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个，若每天要生产这种工艺品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个，那么需要工人多少人？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250920" y="806400"/>
            <a:ext cx="828036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某商场出售一批进价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的贺卡，在市场营销中发现此商品的日销售单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与日销售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间有如下关系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根据表中的数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平面直角坐标系中描出实数对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的对应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猜测并确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间的函数关系式，并画出图象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设经营此贺卡的销售利润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，试求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间的函数关系式，若物价局规定此贺卡的销售价最高不能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／个，请你求出当日销售单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定为多少元时，才能获得最大日销售利润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95640" y="1817640"/>
          <a:ext cx="4321440" cy="1036800"/>
        </p:xfrm>
        <a:graphic>
          <a:graphicData uri="http://schemas.openxmlformats.org/drawingml/2006/table">
            <a:tbl>
              <a:tblPr/>
              <a:tblGrid>
                <a:gridCol w="1513080"/>
                <a:gridCol w="790560"/>
                <a:gridCol w="649080"/>
                <a:gridCol w="720720"/>
                <a:gridCol w="648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元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个）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WordArt 23"/>
          <p:cNvSpPr txBox="1"/>
          <p:nvPr/>
        </p:nvSpPr>
        <p:spPr>
          <a:xfrm>
            <a:off x="0" y="0"/>
            <a:ext cx="104292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练习</a:t>
            </a:r>
            <a:endParaRPr b="1" lang="en-US" sz="28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466560" y="447840"/>
            <a:ext cx="820908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　　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辆汽车往返于甲、乙两地之间，如果汽车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米／时的平均速度从甲地出发，则经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时可达到乙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甲、乙两地相距多少千米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如果汽车把速度提高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千米／时），那么从甲地到乙地所用时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小时）将怎样变化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写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间的函数关系式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因某种原因，这辆汽车需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时内从乙地到甲地，则此汽车的平均速度至少应是多少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已知汽车的平均速度最大可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米／时，那么它从甲地到乙地最快需要多长时间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0" y="1054080"/>
            <a:ext cx="9144000" cy="3790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0" name="Text Box 3"/>
          <p:cNvSpPr/>
          <p:nvPr/>
        </p:nvSpPr>
        <p:spPr>
          <a:xfrm>
            <a:off x="535680" y="189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补充练习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24000" y="1413000"/>
            <a:ext cx="504720" cy="52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Image4"/>
          <p:cNvPicPr/>
          <p:nvPr/>
        </p:nvPicPr>
        <p:blipFill>
          <a:blip r:embed="rId1">
            <a:lum contrast="84000"/>
          </a:blip>
          <a:srcRect l="13769" t="8110" r="12835" b="20424"/>
          <a:stretch/>
        </p:blipFill>
        <p:spPr>
          <a:xfrm>
            <a:off x="5800680" y="3657600"/>
            <a:ext cx="3171960" cy="32194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228600" y="5105520"/>
            <a:ext cx="61722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试着在坐标轴上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D,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使△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AOD≌△BOC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385080" y="2286000"/>
            <a:ext cx="106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分别写出这两个函数的表达式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380880" y="2895480"/>
            <a:ext cx="586764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你能求出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坐标吗？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你是怎样求的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04920" y="4038480"/>
            <a:ext cx="632448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若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坐标是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请求△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BOC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面积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7"/>
          <p:cNvGrpSpPr/>
          <p:nvPr/>
        </p:nvGrpSpPr>
        <p:grpSpPr>
          <a:xfrm>
            <a:off x="457200" y="0"/>
            <a:ext cx="7580160" cy="2137680"/>
            <a:chOff x="457200" y="0"/>
            <a:chExt cx="7580160" cy="2137680"/>
          </a:xfrm>
        </p:grpSpPr>
        <p:grpSp>
          <p:nvGrpSpPr>
            <p:cNvPr id="138" name="Group 8"/>
            <p:cNvGrpSpPr/>
            <p:nvPr/>
          </p:nvGrpSpPr>
          <p:grpSpPr>
            <a:xfrm>
              <a:off x="457200" y="0"/>
              <a:ext cx="7580160" cy="2137680"/>
              <a:chOff x="457200" y="0"/>
              <a:chExt cx="7580160" cy="2137680"/>
            </a:xfrm>
          </p:grpSpPr>
          <p:sp>
            <p:nvSpPr>
              <p:cNvPr id="139" name="Rectangle 9"/>
              <p:cNvSpPr/>
              <p:nvPr/>
            </p:nvSpPr>
            <p:spPr>
              <a:xfrm>
                <a:off x="457200" y="0"/>
                <a:ext cx="7580160" cy="158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2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、如图所示，正比例函数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y=k</a:t>
                </a:r>
                <a:r>
                  <a:rPr b="1" lang="zh-CN" sz="3200" spc="-1" strike="noStrike" baseline="-30000">
                    <a:solidFill>
                      <a:srgbClr val="000000"/>
                    </a:solidFill>
                    <a:latin typeface="隶书"/>
                    <a:ea typeface="隶书"/>
                  </a:rPr>
                  <a:t>1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x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的图象与反比例函数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y=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的图象交于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A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、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B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两点，其中点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A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的坐标为（    ，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2 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隶书"/>
                    <a:ea typeface="隶书"/>
                  </a:rPr>
                  <a:t>）。 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" name="Group 10"/>
              <p:cNvGrpSpPr/>
              <p:nvPr/>
            </p:nvGrpSpPr>
            <p:grpSpPr>
              <a:xfrm>
                <a:off x="3710160" y="1677960"/>
                <a:ext cx="574560" cy="459720"/>
                <a:chOff x="3710160" y="1677960"/>
                <a:chExt cx="574560" cy="459720"/>
              </a:xfrm>
            </p:grpSpPr>
            <p:sp>
              <p:nvSpPr>
                <p:cNvPr id="141" name="Freeform 11"/>
                <p:cNvSpPr/>
                <p:nvPr/>
              </p:nvSpPr>
              <p:spPr>
                <a:xfrm>
                  <a:off x="3710160" y="1749240"/>
                  <a:ext cx="503280" cy="360360"/>
                </a:xfrm>
                <a:custGeom>
                  <a:avLst/>
                  <a:gdLst>
                    <a:gd name="textAreaLeft" fmla="*/ 0 w 503280"/>
                    <a:gd name="textAreaRight" fmla="*/ 503280 w 503280"/>
                    <a:gd name="textAreaTop" fmla="*/ 0 h 360360"/>
                    <a:gd name="textAreaBottom" fmla="*/ 360720 h 360360"/>
                  </a:gdLst>
                  <a:ahLst/>
                  <a:rect l="textAreaLeft" t="textAreaTop" r="textAreaRight" b="textAreaBottom"/>
                  <a:pathLst>
                    <a:path w="635" h="317">
                      <a:moveTo>
                        <a:pt x="0" y="181"/>
                      </a:moveTo>
                      <a:lnTo>
                        <a:pt x="136" y="317"/>
                      </a:lnTo>
                      <a:lnTo>
                        <a:pt x="181" y="0"/>
                      </a:lnTo>
                      <a:lnTo>
                        <a:pt x="635" y="0"/>
                      </a:lnTo>
                    </a:path>
                  </a:pathLst>
                </a:custGeom>
                <a:noFill/>
                <a:ln cap="sq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Text Box 12"/>
                <p:cNvSpPr/>
                <p:nvPr/>
              </p:nvSpPr>
              <p:spPr>
                <a:xfrm>
                  <a:off x="3853080" y="1677960"/>
                  <a:ext cx="431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Group 13"/>
              <p:cNvGrpSpPr/>
              <p:nvPr/>
            </p:nvGrpSpPr>
            <p:grpSpPr>
              <a:xfrm>
                <a:off x="5045040" y="1639800"/>
                <a:ext cx="574560" cy="459720"/>
                <a:chOff x="5045040" y="1639800"/>
                <a:chExt cx="574560" cy="459720"/>
              </a:xfrm>
            </p:grpSpPr>
            <p:sp>
              <p:nvSpPr>
                <p:cNvPr id="144" name="Freeform 14"/>
                <p:cNvSpPr/>
                <p:nvPr/>
              </p:nvSpPr>
              <p:spPr>
                <a:xfrm>
                  <a:off x="5045040" y="1711080"/>
                  <a:ext cx="503280" cy="360360"/>
                </a:xfrm>
                <a:custGeom>
                  <a:avLst/>
                  <a:gdLst>
                    <a:gd name="textAreaLeft" fmla="*/ 0 w 503280"/>
                    <a:gd name="textAreaRight" fmla="*/ 503280 w 503280"/>
                    <a:gd name="textAreaTop" fmla="*/ 0 h 360360"/>
                    <a:gd name="textAreaBottom" fmla="*/ 360720 h 360360"/>
                  </a:gdLst>
                  <a:ahLst/>
                  <a:rect l="textAreaLeft" t="textAreaTop" r="textAreaRight" b="textAreaBottom"/>
                  <a:pathLst>
                    <a:path w="635" h="317">
                      <a:moveTo>
                        <a:pt x="0" y="181"/>
                      </a:moveTo>
                      <a:lnTo>
                        <a:pt x="136" y="317"/>
                      </a:lnTo>
                      <a:lnTo>
                        <a:pt x="181" y="0"/>
                      </a:lnTo>
                      <a:lnTo>
                        <a:pt x="635" y="0"/>
                      </a:lnTo>
                    </a:path>
                  </a:pathLst>
                </a:custGeom>
                <a:noFill/>
                <a:ln cap="sq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Text Box 15"/>
                <p:cNvSpPr/>
                <p:nvPr/>
              </p:nvSpPr>
              <p:spPr>
                <a:xfrm>
                  <a:off x="5187960" y="1639800"/>
                  <a:ext cx="431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6" name="Group 16"/>
            <p:cNvGrpSpPr/>
            <p:nvPr/>
          </p:nvGrpSpPr>
          <p:grpSpPr>
            <a:xfrm>
              <a:off x="3029040" y="685800"/>
              <a:ext cx="445320" cy="916920"/>
              <a:chOff x="3029040" y="685800"/>
              <a:chExt cx="445320" cy="916920"/>
            </a:xfrm>
          </p:grpSpPr>
          <p:sp>
            <p:nvSpPr>
              <p:cNvPr id="147" name="Text Box 17"/>
              <p:cNvSpPr/>
              <p:nvPr/>
            </p:nvSpPr>
            <p:spPr>
              <a:xfrm>
                <a:off x="3035880" y="68580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18"/>
              <p:cNvSpPr/>
              <p:nvPr/>
            </p:nvSpPr>
            <p:spPr>
              <a:xfrm>
                <a:off x="3043080" y="1177920"/>
                <a:ext cx="38088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 Box 19"/>
              <p:cNvSpPr/>
              <p:nvPr/>
            </p:nvSpPr>
            <p:spPr>
              <a:xfrm>
                <a:off x="3029040" y="1143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Line 20"/>
          <p:cNvSpPr/>
          <p:nvPr/>
        </p:nvSpPr>
        <p:spPr>
          <a:xfrm flipH="1" flipV="1">
            <a:off x="7276680" y="3714840"/>
            <a:ext cx="19080" cy="304776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5867280" y="5353200"/>
            <a:ext cx="2971800" cy="0"/>
          </a:xfrm>
          <a:prstGeom prst="line">
            <a:avLst/>
          </a:prstGeom>
          <a:ln cap="sq" w="28440">
            <a:solidFill>
              <a:srgbClr val="0000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22"/>
          <p:cNvGrpSpPr/>
          <p:nvPr/>
        </p:nvGrpSpPr>
        <p:grpSpPr>
          <a:xfrm>
            <a:off x="6007680" y="4724280"/>
            <a:ext cx="926640" cy="1379520"/>
            <a:chOff x="6007680" y="4724280"/>
            <a:chExt cx="926640" cy="1379520"/>
          </a:xfrm>
        </p:grpSpPr>
        <p:sp>
          <p:nvSpPr>
            <p:cNvPr id="153" name="Oval 23"/>
            <p:cNvSpPr/>
            <p:nvPr/>
          </p:nvSpPr>
          <p:spPr>
            <a:xfrm>
              <a:off x="6157800" y="5314680"/>
              <a:ext cx="71640" cy="71640"/>
            </a:xfrm>
            <a:prstGeom prst="ellipse">
              <a:avLst/>
            </a:prstGeom>
            <a:solidFill>
              <a:srgbClr val="cc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24"/>
            <p:cNvGrpSpPr/>
            <p:nvPr/>
          </p:nvGrpSpPr>
          <p:grpSpPr>
            <a:xfrm>
              <a:off x="6007680" y="4724280"/>
              <a:ext cx="926640" cy="1379520"/>
              <a:chOff x="6007680" y="4724280"/>
              <a:chExt cx="926640" cy="1379520"/>
            </a:xfrm>
          </p:grpSpPr>
          <p:sp>
            <p:nvSpPr>
              <p:cNvPr id="155" name="Text Box 25"/>
              <p:cNvSpPr/>
              <p:nvPr/>
            </p:nvSpPr>
            <p:spPr>
              <a:xfrm>
                <a:off x="6007680" y="47242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26"/>
              <p:cNvSpPr/>
              <p:nvPr/>
            </p:nvSpPr>
            <p:spPr>
              <a:xfrm>
                <a:off x="6216480" y="5395680"/>
                <a:ext cx="717840" cy="708120"/>
              </a:xfrm>
              <a:prstGeom prst="line">
                <a:avLst/>
              </a:prstGeom>
              <a:ln cap="sq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27"/>
              <p:cNvSpPr/>
              <p:nvPr/>
            </p:nvSpPr>
            <p:spPr>
              <a:xfrm>
                <a:off x="6210360" y="5357520"/>
                <a:ext cx="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8" name="Group 28"/>
          <p:cNvGrpSpPr/>
          <p:nvPr/>
        </p:nvGrpSpPr>
        <p:grpSpPr>
          <a:xfrm>
            <a:off x="7696080" y="4667400"/>
            <a:ext cx="897840" cy="1278720"/>
            <a:chOff x="7696080" y="4667400"/>
            <a:chExt cx="897840" cy="1278720"/>
          </a:xfrm>
        </p:grpSpPr>
        <p:sp>
          <p:nvSpPr>
            <p:cNvPr id="159" name="Oval 29"/>
            <p:cNvSpPr/>
            <p:nvPr/>
          </p:nvSpPr>
          <p:spPr>
            <a:xfrm>
              <a:off x="8362800" y="5315040"/>
              <a:ext cx="71640" cy="71640"/>
            </a:xfrm>
            <a:prstGeom prst="ellipse">
              <a:avLst/>
            </a:prstGeom>
            <a:solidFill>
              <a:srgbClr val="cc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30"/>
            <p:cNvSpPr/>
            <p:nvPr/>
          </p:nvSpPr>
          <p:spPr>
            <a:xfrm>
              <a:off x="8193600" y="5486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31"/>
            <p:cNvSpPr/>
            <p:nvPr/>
          </p:nvSpPr>
          <p:spPr>
            <a:xfrm>
              <a:off x="7696080" y="4667400"/>
              <a:ext cx="717480" cy="708120"/>
            </a:xfrm>
            <a:prstGeom prst="line">
              <a:avLst/>
            </a:prstGeom>
            <a:ln cap="sq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 Box 32"/>
          <p:cNvSpPr/>
          <p:nvPr/>
        </p:nvSpPr>
        <p:spPr>
          <a:xfrm>
            <a:off x="7741800" y="5651640"/>
            <a:ext cx="132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132529278"/>
          <p:cNvPicPr/>
          <p:nvPr/>
        </p:nvPicPr>
        <p:blipFill>
          <a:blip r:embed="rId1"/>
          <a:stretch/>
        </p:blipFill>
        <p:spPr>
          <a:xfrm>
            <a:off x="0" y="4419720"/>
            <a:ext cx="8915400" cy="2438280"/>
          </a:xfrm>
          <a:prstGeom prst="rect">
            <a:avLst/>
          </a:prstGeom>
          <a:ln w="0">
            <a:noFill/>
          </a:ln>
        </p:spPr>
      </p:pic>
      <p:sp>
        <p:nvSpPr>
          <p:cNvPr id="164" name="WordArt 3"/>
          <p:cNvSpPr txBox="1"/>
          <p:nvPr/>
        </p:nvSpPr>
        <p:spPr>
          <a:xfrm>
            <a:off x="2209680" y="838080"/>
            <a:ext cx="4496040" cy="242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下课啦！</a:t>
            </a:r>
            <a:endParaRPr b="1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0" y="0"/>
            <a:ext cx="9307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问题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: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某校科技小组进行野外考察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途中遇到一片十几米宽的烂泥湿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为了安全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迅速通过这片湿地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他们沿着前进路线铺垫了若干块木板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构筑成一条临时通道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从而顺利完成了任务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250920" y="1989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请你解释他们这样做的道理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Image1"/>
          <p:cNvPicPr/>
          <p:nvPr/>
        </p:nvPicPr>
        <p:blipFill>
          <a:blip r:embed="rId1">
            <a:lum bright="12000"/>
          </a:blip>
          <a:srcRect l="0" t="0" r="120" b="94"/>
          <a:stretch/>
        </p:blipFill>
        <p:spPr>
          <a:xfrm>
            <a:off x="6629400" y="2133720"/>
            <a:ext cx="2514600" cy="32004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0" y="2565360"/>
            <a:ext cx="664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当人和木板对湿地的压力一定时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随着木板面积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(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㎡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的变化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人和木板对地面的压强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(     )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将如何变化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2"/>
          <a:stretch/>
        </p:blipFill>
        <p:spPr>
          <a:xfrm>
            <a:off x="2916360" y="3284640"/>
            <a:ext cx="583920" cy="9525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0" y="4149720"/>
            <a:ext cx="71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答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在物理中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我们曾学过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当人和木板对湿地的压力一定时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随着木板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面积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的增加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人和木板对地面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压强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将减小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76320" y="152280"/>
            <a:ext cx="899136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人和木板对湿地的压力合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0N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  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代数式表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,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反比例函数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木板面积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压强是多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要求压强不超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00    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木板面积至少要多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直角坐标系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出相应函数图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利用图象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② 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出直观解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4500720" y="141300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是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的反比例函数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476360" y="981000"/>
            <a:ext cx="2590920" cy="10558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1116000" y="227664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当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=0.2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P=600/0.2=3000(P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258920" y="31417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当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≤6000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时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,S≥600/6000=0.1(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141c"/>
          <p:cNvPicPr/>
          <p:nvPr/>
        </p:nvPicPr>
        <p:blipFill>
          <a:blip r:embed="rId2"/>
          <a:stretch/>
        </p:blipFill>
        <p:spPr>
          <a:xfrm>
            <a:off x="3657600" y="4191120"/>
            <a:ext cx="5486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141c"/>
          <p:cNvPicPr/>
          <p:nvPr/>
        </p:nvPicPr>
        <p:blipFill>
          <a:blip r:embed="rId1"/>
          <a:stretch/>
        </p:blipFill>
        <p:spPr>
          <a:xfrm>
            <a:off x="3419640" y="2490840"/>
            <a:ext cx="5486400" cy="26668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0" y="50576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问题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是已知图象上的某点的横坐标为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0.2,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求该点的纵坐标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;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问题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是已知图象上点的纵坐标不大于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6000,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求这些点所处位置及它们横坐标的取值范围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实际上这些点都在直线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=6000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下方的图象上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0" y="0"/>
            <a:ext cx="8991720" cy="51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如果人和木板对湿地的压力合计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00N,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那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①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用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的代数式表示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,p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的反比例函数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②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当木板面积为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㎡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压强是多少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?  ③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如果要求压强不超过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6000    ,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木板面积至少要多大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④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在直角坐标系中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作出相应函数图象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⑤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请利用图象对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② ③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做出直观解释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250920" y="0"/>
            <a:ext cx="8893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问题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市煤气公司要在地下修建一个容积为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2800" spc="-1" strike="noStrike" baseline="30000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1" lang="zh-CN" sz="2800" spc="-1" strike="noStrike" baseline="30000">
                <a:solidFill>
                  <a:srgbClr val="0000ff"/>
                </a:solidFill>
                <a:latin typeface="Arial"/>
              </a:rPr>
              <a:t>3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圆柱形煤气储存室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储存室的底面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S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单位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: m</a:t>
            </a:r>
            <a:r>
              <a:rPr b="1" lang="zh-CN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与其深度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d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单位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:m)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有怎样的函数关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-31680" y="3276720"/>
            <a:ext cx="71103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圆柱体的体积公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×d=1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797040" y="5118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形得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252360" y="6156360"/>
            <a:ext cx="7456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即储存室的底面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其深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反比例函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2147760" y="4643280"/>
            <a:ext cx="3720960" cy="1347840"/>
            <a:chOff x="2147760" y="4643280"/>
            <a:chExt cx="3720960" cy="1347840"/>
          </a:xfrm>
        </p:grpSpPr>
        <mc:AlternateContent>
          <mc:Choice xmlns:a14="http://schemas.microsoft.com/office/drawing/2010/main" Requires="a14">
            <p:sp>
              <p:nvSpPr>
                <p:cNvPr id="62" name="Object 7"/>
                <p:cNvSpPr txBox="1"/>
                <p:nvPr/>
              </p:nvSpPr>
              <p:spPr>
                <a:xfrm>
                  <a:off x="2147760" y="4643280"/>
                  <a:ext cx="2044800" cy="13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num>
                        <m:den>
                          <m:r>
                            <m:t xml:space="preserve">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3" name="Text Box 8"/>
            <p:cNvSpPr/>
            <p:nvPr/>
          </p:nvSpPr>
          <p:spPr>
            <a:xfrm>
              <a:off x="4329000" y="514188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Object 9"/>
                <p:cNvSpPr txBox="1"/>
                <p:nvPr/>
              </p:nvSpPr>
              <p:spPr>
                <a:xfrm>
                  <a:off x="4344840" y="5043240"/>
                  <a:ext cx="1523880" cy="64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d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5" name="AutoShape 10"/>
          <p:cNvSpPr/>
          <p:nvPr/>
        </p:nvSpPr>
        <p:spPr>
          <a:xfrm>
            <a:off x="6480000" y="3564000"/>
            <a:ext cx="1944720" cy="18000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8499960" y="42116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2"/>
          <p:cNvSpPr/>
          <p:nvPr/>
        </p:nvSpPr>
        <p:spPr>
          <a:xfrm>
            <a:off x="6480000" y="4788000"/>
            <a:ext cx="1944720" cy="625320"/>
          </a:xfrm>
          <a:prstGeom prst="ellipse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"/>
          <p:cNvSpPr/>
          <p:nvPr/>
        </p:nvSpPr>
        <p:spPr>
          <a:xfrm>
            <a:off x="7131240" y="4861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4" descr="http:/www.pep.com.cn/images/200503/pic_219042.jpg"/>
          <p:cNvPicPr/>
          <p:nvPr/>
        </p:nvPicPr>
        <p:blipFill>
          <a:blip r:embed="rId1"/>
          <a:srcRect l="10989" t="35698" r="65667" b="52998"/>
          <a:stretch/>
        </p:blipFill>
        <p:spPr>
          <a:xfrm>
            <a:off x="5940360" y="1628640"/>
            <a:ext cx="320364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835920" y="2057400"/>
            <a:ext cx="553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=5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代入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得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3"/>
              <p:cNvSpPr txBox="1"/>
              <p:nvPr/>
            </p:nvSpPr>
            <p:spPr>
              <a:xfrm>
                <a:off x="3962520" y="1600200"/>
                <a:ext cx="167616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2484360" y="2852640"/>
                <a:ext cx="190512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3" name="Group 5"/>
          <p:cNvGrpSpPr/>
          <p:nvPr/>
        </p:nvGrpSpPr>
        <p:grpSpPr>
          <a:xfrm>
            <a:off x="1665360" y="4648320"/>
            <a:ext cx="5441400" cy="1373760"/>
            <a:chOff x="1665360" y="4648320"/>
            <a:chExt cx="5441400" cy="1373760"/>
          </a:xfrm>
        </p:grpSpPr>
        <p:sp>
          <p:nvSpPr>
            <p:cNvPr id="74" name="Text Box 6"/>
            <p:cNvSpPr/>
            <p:nvPr/>
          </p:nvSpPr>
          <p:spPr>
            <a:xfrm>
              <a:off x="1665360" y="4648320"/>
              <a:ext cx="54414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答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如果把储存室的底面积定为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500       ,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施工时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应向地下掘进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0m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深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Object 7"/>
                <p:cNvSpPr txBox="1"/>
                <p:nvPr/>
              </p:nvSpPr>
              <p:spPr>
                <a:xfrm>
                  <a:off x="6248520" y="4876920"/>
                  <a:ext cx="680760" cy="74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m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6" name="Rectangle 8"/>
          <p:cNvSpPr/>
          <p:nvPr/>
        </p:nvSpPr>
        <p:spPr>
          <a:xfrm>
            <a:off x="609480" y="4572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公司决定把储存室的底面积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定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00 m</a:t>
            </a:r>
            <a:r>
              <a:rPr b="1" lang="en-US" sz="2800" spc="-1" strike="noStrike" baseline="30000">
                <a:solidFill>
                  <a:srgbClr val="0000ff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施工             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队施工时应该向下掘进多深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9"/>
          <p:cNvGrpSpPr/>
          <p:nvPr/>
        </p:nvGrpSpPr>
        <p:grpSpPr>
          <a:xfrm>
            <a:off x="1693800" y="4175280"/>
            <a:ext cx="2525760" cy="622080"/>
            <a:chOff x="1693800" y="4175280"/>
            <a:chExt cx="2525760" cy="622080"/>
          </a:xfrm>
        </p:grpSpPr>
        <mc:AlternateContent>
          <mc:Choice xmlns:a14="http://schemas.microsoft.com/office/drawing/2010/main" Requires="a14">
            <p:sp>
              <p:nvSpPr>
                <p:cNvPr id="78" name="Object 10"/>
                <p:cNvSpPr txBox="1"/>
                <p:nvPr/>
              </p:nvSpPr>
              <p:spPr>
                <a:xfrm>
                  <a:off x="2619360" y="4175280"/>
                  <a:ext cx="1600200" cy="62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9" name="Rectangle 11"/>
            <p:cNvSpPr/>
            <p:nvPr/>
          </p:nvSpPr>
          <p:spPr>
            <a:xfrm>
              <a:off x="1693800" y="42512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解得：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109880" y="2209680"/>
            <a:ext cx="60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题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=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代入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得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3"/>
              <p:cNvSpPr txBox="1"/>
              <p:nvPr/>
            </p:nvSpPr>
            <p:spPr>
              <a:xfrm>
                <a:off x="5105520" y="1752480"/>
                <a:ext cx="152388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4"/>
              <p:cNvSpPr txBox="1"/>
              <p:nvPr/>
            </p:nvSpPr>
            <p:spPr>
              <a:xfrm>
                <a:off x="2916360" y="2852640"/>
                <a:ext cx="156024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" name="Text Box 5"/>
          <p:cNvSpPr/>
          <p:nvPr/>
        </p:nvSpPr>
        <p:spPr>
          <a:xfrm>
            <a:off x="1065240" y="4292640"/>
            <a:ext cx="33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得：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≈666.6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6"/>
          <p:cNvGrpSpPr/>
          <p:nvPr/>
        </p:nvGrpSpPr>
        <p:grpSpPr>
          <a:xfrm>
            <a:off x="1492920" y="5029200"/>
            <a:ext cx="5676480" cy="1373760"/>
            <a:chOff x="1492920" y="5029200"/>
            <a:chExt cx="5676480" cy="1373760"/>
          </a:xfrm>
        </p:grpSpPr>
        <p:sp>
          <p:nvSpPr>
            <p:cNvPr id="85" name="Text Box 7"/>
            <p:cNvSpPr/>
            <p:nvPr/>
          </p:nvSpPr>
          <p:spPr>
            <a:xfrm>
              <a:off x="1492920" y="5029200"/>
              <a:ext cx="56764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答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当储存室的深为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5m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时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储存室的底面积应改为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66.67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才能满足需要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Object 8"/>
                <p:cNvSpPr txBox="1"/>
                <p:nvPr/>
              </p:nvSpPr>
              <p:spPr>
                <a:xfrm>
                  <a:off x="1539720" y="5649840"/>
                  <a:ext cx="62244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m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7" name="Rectangle 9"/>
          <p:cNvSpPr/>
          <p:nvPr/>
        </p:nvSpPr>
        <p:spPr>
          <a:xfrm>
            <a:off x="250920" y="4716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当施工队按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中的计划掘进到地下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5m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时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碰上了坚硬的岩石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为了节约建设资金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储存室的底面积应改为多少才能满足需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保留两位小数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)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108000" y="115920"/>
            <a:ext cx="3581280" cy="685800"/>
            <a:chOff x="108000" y="115920"/>
            <a:chExt cx="3581280" cy="685800"/>
          </a:xfrm>
        </p:grpSpPr>
        <p:grpSp>
          <p:nvGrpSpPr>
            <p:cNvPr id="89" name="Group 3"/>
            <p:cNvGrpSpPr/>
            <p:nvPr/>
          </p:nvGrpSpPr>
          <p:grpSpPr>
            <a:xfrm>
              <a:off x="108000" y="135000"/>
              <a:ext cx="2362320" cy="520560"/>
              <a:chOff x="108000" y="135000"/>
              <a:chExt cx="2362320" cy="520560"/>
            </a:xfrm>
          </p:grpSpPr>
          <p:sp>
            <p:nvSpPr>
              <p:cNvPr id="90" name="Rectangle 4"/>
              <p:cNvSpPr/>
              <p:nvPr/>
            </p:nvSpPr>
            <p:spPr>
              <a:xfrm>
                <a:off x="108000" y="163440"/>
                <a:ext cx="236232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      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随堂练习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angle 5"/>
              <p:cNvSpPr/>
              <p:nvPr/>
            </p:nvSpPr>
            <p:spPr>
              <a:xfrm>
                <a:off x="1990080" y="1350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BatangChe"/>
                  </a:rPr>
                  <a:t>1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2" name="Picture 6" descr="678"/>
            <p:cNvPicPr/>
            <p:nvPr/>
          </p:nvPicPr>
          <p:blipFill>
            <a:blip r:embed="rId1"/>
            <a:stretch/>
          </p:blipFill>
          <p:spPr>
            <a:xfrm>
              <a:off x="2470320" y="115920"/>
              <a:ext cx="121896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7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108000" y="268200"/>
              <a:ext cx="53352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Text Box 8"/>
          <p:cNvSpPr/>
          <p:nvPr/>
        </p:nvSpPr>
        <p:spPr>
          <a:xfrm>
            <a:off x="34920" y="9810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知某矩形的面积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出其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间的函数表达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888480" y="2637000"/>
            <a:ext cx="58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矩形的长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宽为多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矩形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宽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cm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长为多少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1126440" y="4724280"/>
            <a:ext cx="582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要求矩形的长不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cm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宽至多要多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11"/>
              <p:cNvSpPr txBox="1"/>
              <p:nvPr/>
            </p:nvSpPr>
            <p:spPr>
              <a:xfrm>
                <a:off x="2597040" y="1541520"/>
                <a:ext cx="449604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12"/>
              <p:cNvSpPr txBox="1"/>
              <p:nvPr/>
            </p:nvSpPr>
            <p:spPr>
              <a:xfrm>
                <a:off x="3924360" y="3213000"/>
                <a:ext cx="3240000" cy="14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,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13"/>
              <p:cNvSpPr txBox="1"/>
              <p:nvPr/>
            </p:nvSpPr>
            <p:spPr>
              <a:xfrm>
                <a:off x="3782880" y="5157720"/>
                <a:ext cx="2265480" cy="15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611280" y="981000"/>
            <a:ext cx="820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某蓄水池的排水管每时排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6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将满池水全部排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蓄水池的容积是多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68360" y="263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解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蓄水池的容积为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:8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×6=48(m</a:t>
            </a:r>
            <a:r>
              <a:rPr b="1" lang="en-US" sz="2800" spc="-1" strike="noStrike" baseline="30000">
                <a:solidFill>
                  <a:srgbClr val="333399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333399"/>
                </a:solidFill>
                <a:latin typeface="宋体"/>
              </a:rPr>
              <a:t>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539640" y="3274920"/>
            <a:ext cx="813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增加排水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使每时的排水量达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(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么将满池水排空所需的时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(h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如何变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39640" y="434988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答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此时所需时间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(h)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将减少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12720" y="507060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间的函数关系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7"/>
          <p:cNvGrpSpPr/>
          <p:nvPr/>
        </p:nvGrpSpPr>
        <p:grpSpPr>
          <a:xfrm>
            <a:off x="539640" y="5522760"/>
            <a:ext cx="6624720" cy="1370880"/>
            <a:chOff x="539640" y="5522760"/>
            <a:chExt cx="6624720" cy="1370880"/>
          </a:xfrm>
        </p:grpSpPr>
        <p:sp>
          <p:nvSpPr>
            <p:cNvPr id="106" name="Text Box 8"/>
            <p:cNvSpPr/>
            <p:nvPr/>
          </p:nvSpPr>
          <p:spPr>
            <a:xfrm>
              <a:off x="539640" y="5724360"/>
              <a:ext cx="66247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解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:t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与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Q</a:t>
              </a:r>
              <a:r>
                <a:rPr b="1" lang="zh-CN" sz="2800" spc="-1" strike="noStrike">
                  <a:solidFill>
                    <a:srgbClr val="333399"/>
                  </a:solidFill>
                  <a:latin typeface="Arial"/>
                </a:rPr>
                <a:t>之间的函数关系式为</a:t>
              </a:r>
              <a:r>
                <a:rPr b="1" lang="en-US" sz="2800" spc="-1" strike="noStrike">
                  <a:solidFill>
                    <a:srgbClr val="333399"/>
                  </a:solidFill>
                  <a:latin typeface="Arial"/>
                </a:rPr>
                <a:t>: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" name="Object 9"/>
                <p:cNvSpPr txBox="1"/>
                <p:nvPr/>
              </p:nvSpPr>
              <p:spPr>
                <a:xfrm>
                  <a:off x="5219640" y="5522760"/>
                  <a:ext cx="930240" cy="93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8</m:t>
                          </m:r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8" name="WordArt 10"/>
          <p:cNvSpPr txBox="1"/>
          <p:nvPr/>
        </p:nvSpPr>
        <p:spPr>
          <a:xfrm>
            <a:off x="3492360" y="44280"/>
            <a:ext cx="3886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2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你一定能够解答</a:t>
            </a:r>
            <a:endParaRPr b="1" lang="en-US" sz="2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1438200" y="-95400"/>
            <a:ext cx="1018800" cy="1099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想一想：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6:55:01Z</dcterms:created>
  <dc:creator/>
  <dc:description/>
  <dc:language>en-US</dc:language>
  <cp:lastModifiedBy/>
  <dcterms:modified xsi:type="dcterms:W3CDTF">2014-11-21T09:09:06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